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B8F0A-E09B-4215-BC3D-3B8AAB20C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A1C69-A15D-4F38-AAFA-FD09DCDC8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9137A-C2D6-4004-BD0F-059A1F1D8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64449-047B-4649-BB70-DDF79DBDE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F7D8A-88E3-4967-9EC8-F7B075074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821F7-685B-4484-9DA8-F9B0E10BC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EDD82-4BC1-44D1-B7A8-95AB853C1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96058-AEF7-49E1-8B4E-70E929648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AA542-ED39-4E4A-9DF7-21FCFBBB3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358A0-9B89-4E66-A542-62B42C91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048E3-D911-45E4-9D7A-769B5F059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FE1EF-F165-43F0-9C6F-2320950F2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D92D-BABE-4AF5-9E38-C2945C6ED7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Behavior Assessments and Behavior Intervention Plans</a:t>
            </a:r>
            <a:endParaRPr b="0" lang="en-US" sz="4000" spc="-1" strike="noStrike">
              <a:solidFill>
                <a:srgbClr val="000000"/>
              </a:solidFill>
              <a:latin typeface="Arial"/>
            </a:endParaRPr>
          </a:p>
        </p:txBody>
      </p:sp>
      <p:pic>
        <p:nvPicPr>
          <p:cNvPr id="42" name="" descr=""/>
          <p:cNvPicPr/>
          <p:nvPr/>
        </p:nvPicPr>
        <p:blipFill>
          <a:blip r:embed="rId1"/>
          <a:stretch/>
        </p:blipFill>
        <p:spPr>
          <a:xfrm>
            <a:off x="2362320" y="2362320"/>
            <a:ext cx="419076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evelop an FB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hat are the precursors to the student’s behavior, what does the student do that signals the behavior is coming (antece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RIGGERS to the behav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hether a safety plan is needed (remove students, remove other students, who to contact when assistance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Frustrations experienced by the team</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re’s nothing we can 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t happens out of the b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thing was happening before the behavior occur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udent trying to communicate or tell you with their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out for Setting (Influencing) Event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issu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y issu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ing/eating patter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life ev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de of instruc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going on during transi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udent’s mood coming 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kills are required for the activity and does the student possess those skil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student have the correct materials for cla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ther students are in the cla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student sitting, who is sitting next to him</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Consequences of the student’s behavior</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eachers or other students saying or doing after th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inforcing th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AYOFF for the behavior, what does the student get or get out o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Collection is imperativ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st, social worker, and/or teacher should collect date until they see a pattern of behavi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observing, you need to vary classes and the time of 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cedent-behavior-consequence frequency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data – how long does the behavior la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collection con’t</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 Data- how many intervals was the behavior present during a period of time? (Percent of on or off task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cdotal data- used for low frequency/ high intensity behavior (fight, lifting student’s des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cy data- how long does it take a behavior to start following a cue, how much time goes by between the stimulus cue and the response (e.g. how long can student work before shutting down, when a student is asked to do work, how long do you have to wait before he self-initi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ize the assessment data</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to a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student</a:t>
            </a:r>
            <a:r>
              <a:rPr b="1" lang="en-US" sz="2400" spc="-1" strike="noStrike">
                <a:solidFill>
                  <a:srgbClr val="000000"/>
                </a:solidFill>
                <a:latin typeface="Arial"/>
              </a:rPr>
              <a:t> </a:t>
            </a:r>
            <a:r>
              <a:rPr b="1" i="1" lang="en-US" sz="2400" spc="-1" strike="noStrike" u="sng">
                <a:solidFill>
                  <a:srgbClr val="000000"/>
                </a:solidFill>
                <a:uFillTx/>
                <a:latin typeface="Arial"/>
              </a:rPr>
              <a:t>Get</a:t>
            </a:r>
            <a:r>
              <a:rPr b="0" lang="en-US" sz="2400" spc="-1" strike="noStrike">
                <a:solidFill>
                  <a:srgbClr val="000000"/>
                </a:solidFill>
                <a:latin typeface="Arial"/>
              </a:rPr>
              <a:t> something? (A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student </a:t>
            </a:r>
            <a:r>
              <a:rPr b="1" i="1" lang="en-US" sz="2400" spc="-1" strike="noStrike" u="sng">
                <a:solidFill>
                  <a:srgbClr val="000000"/>
                </a:solidFill>
                <a:uFillTx/>
                <a:latin typeface="Arial"/>
              </a:rPr>
              <a:t>GET OUT OF</a:t>
            </a:r>
            <a:r>
              <a:rPr b="0" lang="en-US" sz="2400" spc="-1" strike="noStrike">
                <a:solidFill>
                  <a:srgbClr val="000000"/>
                </a:solidFill>
                <a:latin typeface="Arial"/>
              </a:rPr>
              <a:t> something? (ESCAP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unction of the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urpose or the reason why the student is engaging in the problem behavi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behavior serves a </a:t>
            </a:r>
            <a:r>
              <a:rPr b="1" i="1" lang="en-US" sz="2000" spc="-1" strike="noStrike" u="sng">
                <a:solidFill>
                  <a:srgbClr val="000000"/>
                </a:solidFill>
                <a:uFillTx/>
                <a:latin typeface="Arial"/>
              </a:rPr>
              <a:t>FUN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is reinforcing (Increases the behavi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reinforcement- </a:t>
            </a:r>
            <a:r>
              <a:rPr b="1" lang="en-US" sz="2000" spc="-1" strike="noStrike">
                <a:solidFill>
                  <a:srgbClr val="000000"/>
                </a:solidFill>
                <a:latin typeface="Arial"/>
              </a:rPr>
              <a:t>provide</a:t>
            </a:r>
            <a:r>
              <a:rPr b="0" lang="en-US" sz="2000" spc="-1" strike="noStrike">
                <a:solidFill>
                  <a:srgbClr val="000000"/>
                </a:solidFill>
                <a:latin typeface="Arial"/>
              </a:rPr>
              <a:t> the student with something they want (attention, an item, an activity, stim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Reinforcement- </a:t>
            </a:r>
            <a:r>
              <a:rPr b="1" lang="en-US" sz="2000" spc="-1" strike="noStrike">
                <a:solidFill>
                  <a:srgbClr val="000000"/>
                </a:solidFill>
                <a:latin typeface="Arial"/>
              </a:rPr>
              <a:t>take away</a:t>
            </a:r>
            <a:r>
              <a:rPr b="0" lang="en-US" sz="2000" spc="-1" strike="noStrike">
                <a:solidFill>
                  <a:srgbClr val="000000"/>
                </a:solidFill>
                <a:latin typeface="Arial"/>
              </a:rPr>
              <a:t> something they don’t want (work, demand, activ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we reinforce behavior?</a:t>
            </a:r>
            <a:endParaRPr b="0" lang="en-US" sz="4400" spc="-1" strike="noStrike">
              <a:solidFill>
                <a:srgbClr val="000000"/>
              </a:solidFill>
              <a:latin typeface="Arial"/>
            </a:endParaRPr>
          </a:p>
        </p:txBody>
      </p:sp>
      <p:sp>
        <p:nvSpPr>
          <p:cNvPr id="74" name="PlaceHolder 2"/>
          <p:cNvSpPr>
            <a:spLocks noGrp="1"/>
          </p:cNvSpPr>
          <p:nvPr>
            <p:ph/>
          </p:nvPr>
        </p:nvSpPr>
        <p:spPr>
          <a:xfrm>
            <a:off x="609120" y="1523520"/>
            <a:ext cx="49532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misbehave, teacher sends them out of room to administrator or deten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attention from adults (positive reinforc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cool in front of pe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ut of class (negative reinforc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1"/>
          <a:stretch/>
        </p:blipFill>
        <p:spPr>
          <a:xfrm>
            <a:off x="5522760" y="1371600"/>
            <a:ext cx="356580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how we reinforc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an’t read, teacher asks them to read in front of class, student tosses book and is sent out of 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worse for stu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ntion or being embarrassed in front of 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function of the behavior?</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is constantly speaking in class, teacher reprimands student, that is reinforcing to student if the function of the behavior is to get attention from ad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FB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process of determining why a student engages in challenging behavior and how the student’s behavior relates to the </a:t>
            </a:r>
            <a:r>
              <a:rPr b="1" i="1" lang="en-US" sz="3200" spc="-1" strike="noStrike" u="sng">
                <a:solidFill>
                  <a:srgbClr val="000000"/>
                </a:solidFill>
                <a:uFillTx/>
                <a:latin typeface="Arial"/>
              </a:rPr>
              <a:t>enviro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behavior is motivated by a need that is UNMET, therefore our responses will reinforce or extinguish the behavior; therefore we have to be sure that our response corrects th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prevent the behavior from occur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ESCAPE Motivated Behavior</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motivation for the task de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y co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stimulating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ersonal confli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ACCESS Motivated Behavior</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Tang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ability over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need to feel sa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havior Intervention Plans (BIP)</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BIPs consist of multiple intervention components and support strate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components are needed because it is highly unlikely that any single intervention can address the comprehensive, long-term goals of behavior support for students who present with complex behavioral conce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sing an FBA to find out what function a problem behavior serves, one can then choose an alternative positive behavior to replace it that serves the same func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ddition, in finding out what variable triggers the behavior (antecedent) and what reinforces it (consequence), one can then modify the environment to help decrease the frequency of future target behavi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the Environment that’s expected to change, there is a mismatch in the Environment</a:t>
            </a:r>
            <a:endParaRPr b="0" lang="en-US" sz="2400" spc="-1" strike="noStrike">
              <a:solidFill>
                <a:srgbClr val="000000"/>
              </a:solidFill>
              <a:latin typeface="Arial"/>
            </a:endParaRPr>
          </a:p>
        </p:txBody>
      </p:sp>
      <p:pic>
        <p:nvPicPr>
          <p:cNvPr id="89" name="" descr=""/>
          <p:cNvPicPr/>
          <p:nvPr/>
        </p:nvPicPr>
        <p:blipFill>
          <a:blip r:embed="rId1"/>
          <a:stretch/>
        </p:blipFill>
        <p:spPr>
          <a:xfrm>
            <a:off x="1066680" y="3613320"/>
            <a:ext cx="6400800" cy="3016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ry BIP should include…</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kill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forcement – Strengthening Appropriate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to diffuse behavior when it occ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lans may include a safety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Prevention Strategie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you modify the antecedent triggers to prevent the behavior from occur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mpts or scaffolds can you add to the environment to help the student overcome or negotiate trigger situ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some proactive strategies:  teach organizational skills, provide schedules, extra set of materials in class, give student a job when they walk into class, modify work, provide visual cues to help save face for certain behaviors, provide transition warnings, move child’s seat, teacher greeting student at the door, simplify language, repeat directions, provide attention when student is doing what they are supposed to be do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Prevention Strategie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hoices to help them feel like they are in charge (to avoid power strugg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 requests within a choice phra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choice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materials within an activit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between activiti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usal to participa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to participate with</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o start or en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how to complete a tas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or their choice (it’s reinforc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sperse short tasks with long tasks, easy tasks with hard tasks, preferred tasks with non-preferred task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lternative Skill Instructio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a component to teach the student a replacement skill that effectively competes with the problem behavior.  (e.g. if the student has been calling out, he needs to be taught how to raise his ha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functionally equivalent skills to teach the student (e.g. skills that serve the same function as the problem behavi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Teaching the student to ask for help when they don’t understand the task instead of walking out of the room when they are frustrat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ing the student anger management strategies for when they are frustrated with a task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Skill Instructi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students to get attention from peers/ teachers when taking on a leadership ro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self-monitoring so they can become aware of their trigg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and reinforcing appropriate classroom behavi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m a way to escape in a private, appropriate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extracurricular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Lead, and Teach the skills they need to learn when they are in a calm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upport for the generalization of their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FB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blem solving proc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information from a variety of sources collected over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the variables contributing to the occurrence of the problem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us to understand why the behavior is occur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lternative skill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cape examp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brea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for hel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rigg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solv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for modification</a:t>
            </a:r>
            <a:endParaRPr b="0" lang="en-US" sz="2000" spc="-1" strike="noStrike">
              <a:solidFill>
                <a:srgbClr val="000000"/>
              </a:solidFill>
              <a:latin typeface="Arial"/>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atten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an appropriate time to talk with staf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o schedule time for a preferred i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and use a sched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social story or scrip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Reinforcement – Strengthening Appropriate Skills</a:t>
            </a: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provide the student with reinforcement for appropriate behavior?</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and what will people say to provide social praise throughout the day?</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system that provides incentives beyond just social praise.</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should the student receive reinforcement</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riteria the student needs to meet to earn the reinforcement</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privileges can student earn</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pecific, what does the student have to d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es to Strengthen Behavior</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Praise (Validating stat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s and reminders to used alternative ski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entive Systems (the system has to be successful right off the bat, give more reinforcement up fro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 reinforcement consistently and immediate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monitoring; Self-reinforc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Con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entive Systems – Student needs to feel EMPOWERED</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tangible (points, tokens, tick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visual (consider priv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sim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s should be interesting to the student (Interest inventory, Motivation Assessment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rewards (phone call to parents, time with frien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ileges (video games, computer ti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s (points or tickets to cash in for some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trategies to diffuse behavior when it occurs</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the staff act when unwanted behaviors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trategies that can be used when the student first starts to get agit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rategies can be used for behaviors that occur repeated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rategies should be used for unmanageable behavi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gs to consider with regard to student misbehaver:</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zero in on student misbehaving, make sure the rest of the class is wor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questions, consider the function of the behavior, is it to get atten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ill you keep your cool in front of the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problem solve with the student, but not in a moment of agit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scipline strategies that preserve the dignity of the studen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 private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anguage that focuses on the behavior, not the stud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student with op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 positive behavior or choic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ssis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Safety Plan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tudent have to be sent out of the cla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safer to keep the student in the classroom and remove the class? Where will the class g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ill be contacted in case of emergency and how will they be contac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approach student while they are agit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prevent inju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escalation strategies will you 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scalation Strategie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all demands in a cri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physical contact or re-dir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verbal interaction (this is not a time to problem sol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 sof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student to safe ar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assistance from other staf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other students from the ar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away dangerous i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is ALWAYS for the student to remain in class and benefit from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nishment</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effective in the moment, but doesn’t l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d consequences consistently delivered  are more effective than punitive consequ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s to BIP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that strong consequences are eff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f that differentiated interventions are unfa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f that students with problem behaviors are better served elsew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do you need an FBA/BIP</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very student who has behavioral challenges requires and FBA/BIP, in Fact most students will n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1-5% of the students in a school building need these individualized assessments and pl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coming these Barrier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the staff in decision-mak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examples of successful si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ersis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progress and data with teachers and pa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 needs support, encouragement, and celeb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s for success of a BIP</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among team members, the student, and the FAMILY is imperative to improve student outc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most effective in environments that are well manag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o deal with the classroom environment FIR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are most effective when teachers ask for help earlier on, the longer the behavior occurs, the more complicated it becomes to assess and work on the behav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s for succes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xpected that a BIP will need to be modified shortly after it is implemen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ic meetings with team (every 4 to 6 weeks) to answer questions, listen to their frustrations, modify plan,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good data collection to assess effectiveness of the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should have opportunities for ongoing problem sol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BIP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ost common reasons that a BIP fails to be effective is due to poor implementation (Van Acker, Boreson, Gable, &amp; Potterton, 2005).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important that the BIP creation be a collaborative process.  Teachers are more likely to implement the plan with fidelity if they took part in its cre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udent is more likely to respond positively to the plan if s/he had some input in its creation.  This is particularly pertinent in choosing the reinforcers the student will receive for the new positive alternative behavi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lso important to explain the reason for the plan to teachers, and that behavior change takes time and can sometimes get worse before it gets better.  You do not want teachers or parents to stop implementing the plan because they don’t see an automatic change.  They may become frustrated with the plan and/or waiting for the change, so it is also important to motivate and rejuvenate them through the process (Lohrmann, 2007).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BIP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ey thing to remember in the process is using behavioral definitions that are as objective as possible.  The clearer the behavior is, the more readily anyone can be involved with the pla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is key to a successful BIP.  Ideally, all teachers would deliver the same consequence at any instance of the problem behavior.  This is the most effective way to make a chan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se things in mind, an FBAs and BIPs can be very successful behavioral techniques to transform problem behavior.  With the school staff working together, and with the right expectations, one can see change across a number of behaviors and students with a behavior plan that is created with FBA results in mi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ner, R. (1994). Functional assessment: Contributions and future directions. </a:t>
            </a:r>
            <a:r>
              <a:rPr b="0" i="1" lang="en-US" sz="2000" spc="-1" strike="noStrike">
                <a:solidFill>
                  <a:srgbClr val="000000"/>
                </a:solidFill>
                <a:latin typeface="Arial"/>
              </a:rPr>
              <a:t>Journal of Applied Behavior Analysis, 27</a:t>
            </a:r>
            <a:r>
              <a:rPr b="0" lang="en-US" sz="2000" spc="-1" strike="noStrike">
                <a:solidFill>
                  <a:srgbClr val="000000"/>
                </a:solidFill>
                <a:latin typeface="Arial"/>
              </a:rPr>
              <a:t>(2), 401 – 40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am, K., Lewis-Palmer,T., &amp; Sugai, G. (2005). Function-based intervention planning: Comparing the effectiveness of FBA function-based and non-function-based intervention plans. </a:t>
            </a:r>
            <a:r>
              <a:rPr b="0" i="1" lang="en-US" sz="2000" spc="-1" strike="noStrike">
                <a:solidFill>
                  <a:srgbClr val="000000"/>
                </a:solidFill>
                <a:latin typeface="Arial"/>
              </a:rPr>
              <a:t>Journal of Positive Behavior Interventions, 7</a:t>
            </a:r>
            <a:r>
              <a:rPr b="0" lang="en-US" sz="2000" spc="-1" strike="noStrike">
                <a:solidFill>
                  <a:srgbClr val="000000"/>
                </a:solidFill>
                <a:latin typeface="Arial"/>
              </a:rPr>
              <a:t>(4), 224- 23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hrmann, S. (2007, October). </a:t>
            </a:r>
            <a:r>
              <a:rPr b="1" i="1" lang="en-US" sz="2000" spc="-1" strike="noStrike">
                <a:solidFill>
                  <a:srgbClr val="000000"/>
                </a:solidFill>
                <a:latin typeface="Arial"/>
              </a:rPr>
              <a:t>Functional behavior assessment and behavior intervention planning</a:t>
            </a:r>
            <a:r>
              <a:rPr b="1" lang="en-US" sz="2000" spc="-1" strike="noStrike">
                <a:solidFill>
                  <a:srgbClr val="000000"/>
                </a:solidFill>
                <a:latin typeface="Arial"/>
              </a:rPr>
              <a:t>. Presentation presented at St. John’s University, Jamaica, N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n Acker, R., Boreson, L., Gable, R. A., &amp; Potterton, T. (2005). Are we on the right course? Lessons learned about current FBA/BIP practices in school. </a:t>
            </a:r>
            <a:r>
              <a:rPr b="0" i="1" lang="en-US" sz="2000" spc="-1" strike="noStrike">
                <a:solidFill>
                  <a:srgbClr val="000000"/>
                </a:solidFill>
                <a:latin typeface="Arial"/>
              </a:rPr>
              <a:t>Journal of Behavioral Education, 14</a:t>
            </a:r>
            <a:r>
              <a:rPr b="0" lang="en-US" sz="2000" spc="-1" strike="noStrike">
                <a:solidFill>
                  <a:srgbClr val="000000"/>
                </a:solidFill>
                <a:latin typeface="Arial"/>
              </a:rPr>
              <a:t>(1), 35 – 56.</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do you need an FBA/BIP con’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E or 504 referr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or not later than 10 days after disciplinary action is take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s when child’s behavior impedes their learning or learning of oth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involved in this proces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TEAM PROCESS, Includ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of Teach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ance counsel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work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o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 Ro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le for the daily implementation and maintenance of the behavior p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 back to a case manager who is responsible for analyzing the data and modifying the p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that many of the behaviors targeted will take considerable time and effort to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ent Rol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P’s are most effective when parents are involved in its develo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through at home is important; e.g. outside counseling, if needed; using the same language the school is using, consistency with motivators, rewards, and reinforc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are more willing to participate in this process when they receive consistent progress monit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evelop an FB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with team members who are most informed about the stu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should complete Interview tools and help team understand what is motivating to the stu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student behaviors should be specific and well defined, measurable te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of student’s STRENGTH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8:30:00Z</dcterms:created>
  <dc:creator>User</dc:creator>
  <dc:description/>
  <dc:language>en-US</dc:language>
  <cp:lastModifiedBy>setup</cp:lastModifiedBy>
  <dcterms:modified xsi:type="dcterms:W3CDTF">2010-06-08T19:26:13Z</dcterms:modified>
  <cp:revision>30</cp:revision>
  <dc:subject/>
  <dc:title>Functional Behavior Assessments and Behavior Intervention Plans</dc:title>
</cp:coreProperties>
</file>